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EA8-CCAA-4940-9A4C-DB8FED41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47B-F0B0-43E3-9A43-54CA8A2C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A78-26C6-4F95-B24A-34AC6CA2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536-F11E-4CD7-8E21-7AA37B9F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3CC2-6C26-4A68-B6FD-48761C56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68A0-008A-4243-A4E5-E0263110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23C-1D6F-4E48-A885-AFCD7AA3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9A7-0F7E-40F6-81B3-7DFFE7C3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6C2-B639-40D6-85B2-493B87B0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307-C121-4D84-AE47-B51804A8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725-FA2D-4A39-A673-0A26AD61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3085-E7D9-4013-A195-880FCF5D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DE57-80D6-48FE-9B6F-D1DAC2FD9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esent Constraint on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12000"/>
          </a:blip>
          <a:srcRect l="1234" t="0" r="0" b="0"/>
          <a:stretch/>
        </p:blipFill>
        <p:spPr>
          <a:xfrm>
            <a:off x="1692360" y="1162080"/>
            <a:ext cx="5851440" cy="56959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5219640" y="3881520"/>
            <a:ext cx="2820960" cy="917640"/>
            <a:chOff x="5219640" y="3881520"/>
            <a:chExt cx="2820960" cy="917640"/>
          </a:xfrm>
        </p:grpSpPr>
        <p:sp>
          <p:nvSpPr>
            <p:cNvPr id="44" name=""/>
            <p:cNvSpPr/>
            <p:nvPr/>
          </p:nvSpPr>
          <p:spPr>
            <a:xfrm>
              <a:off x="5219640" y="4065480"/>
              <a:ext cx="5047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996520" y="388152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rmal Hierarc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219640" y="4614840"/>
              <a:ext cx="50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96160" y="443088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verted Hierarc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5205240" y="487692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32000" y="1374840"/>
            <a:ext cx="5753160" cy="5438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uture Constraint on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788000" y="3881520"/>
            <a:ext cx="2820960" cy="917640"/>
            <a:chOff x="4788000" y="3881520"/>
            <a:chExt cx="2820960" cy="917640"/>
          </a:xfrm>
        </p:grpSpPr>
        <p:sp>
          <p:nvSpPr>
            <p:cNvPr id="52" name=""/>
            <p:cNvSpPr/>
            <p:nvPr/>
          </p:nvSpPr>
          <p:spPr>
            <a:xfrm>
              <a:off x="4788000" y="4065480"/>
              <a:ext cx="5047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64880" y="388152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rmal Hierarc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88000" y="4614840"/>
              <a:ext cx="50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64520" y="443088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verted Hierarc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773600" y="487692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3960" y="5300640"/>
            <a:ext cx="21556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~ 3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~ 5%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Math1Mono"/>
                <a:ea typeface="Math1Mono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Math1Mono"/>
                <a:ea typeface="Math1Mono"/>
              </a:rPr>
              <a:t>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~ 5% </a:t>
            </a:r>
            <a:r>
              <a:rPr b="0" lang="en-US" sz="1800" spc="-1" strike="noStrike">
                <a:solidFill>
                  <a:srgbClr val="000000"/>
                </a:solidFill>
                <a:latin typeface="Math1Mono"/>
                <a:ea typeface="Math1Mono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Math1Mono"/>
                <a:ea typeface="Math1Mono"/>
              </a:rPr>
              <a:t>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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9:55:53Z</dcterms:created>
  <dc:creator>J.E Campagne</dc:creator>
  <dc:description/>
  <dc:language>en-US</dc:language>
  <cp:lastModifiedBy>J.E Campagne</cp:lastModifiedBy>
  <dcterms:modified xsi:type="dcterms:W3CDTF">2005-07-28T13:21:47Z</dcterms:modified>
  <cp:revision>4</cp:revision>
  <dc:subject/>
  <dc:title>Present Constraint on mb, mbb &amp; S </dc:title>
</cp:coreProperties>
</file>